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9B5-6485-4DCB-B9D9-02F4C96C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3F7-D6C7-4DBC-B16E-676DA569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CEB-51A1-421D-A19C-CE3C3625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E53-D96F-4BF1-9216-9004C419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F6E-1EF1-4069-A4E6-7D8FAAC0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39C-975E-43E6-9E5D-47F45FAB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090-2E0A-4B93-BB55-D7C75F9E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F22-A36F-4E1C-BC6A-277C6C5F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92D-4955-42AF-B70E-F7FFB0EA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F5C-F6CA-4196-9F33-E88C0B45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9DE-2A72-4935-81B2-91372485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B3A-CAFB-4A59-89B4-3DA3DDA2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FC08-9DFF-4085-AA4F-35FD645CB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01680" y="1508040"/>
            <a:ext cx="85471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5491080"/>
            <a:ext cx="85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ح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786880" cy="181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216000" y="3979800"/>
            <a:ext cx="8748720" cy="132084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708280"/>
            <a:ext cx="85690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كون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تلو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ولا تعملون : محمد صلى الله عليه وسلم وأم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82600" y="1671480"/>
            <a:ext cx="85694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عل ما أمر الله  ويترك ما نهى عن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73576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3213000"/>
            <a:ext cx="81360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3632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108000" y="938160"/>
            <a:ext cx="88995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39760" y="1685880"/>
            <a:ext cx="8717040" cy="498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907920"/>
            <a:ext cx="9132840" cy="6177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941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قب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21200" y="94140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م الله الشام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29264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ما تكون يا محمد في أ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511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زن نملة 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6159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الشامل وإحاطت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جميع أعمال العبا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حصاة عل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م الله السابق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ذي دون الله فيه علم كل شيء قبل وقوع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أولياء الله 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ون المتق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79736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جهلة المسلمين الذين غلوا في الأولياء فجعلوا لهم أوصافاً لا قدرة للبشر عليها مث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ع والضر وعلم الغي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558972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كتساب ولاية الله ت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فعل الأوامر واجتناب النواه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60991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كرام الله ل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عجيل البشارة لهم في الدنيا بثناء المؤمنين وبشارة الملائكة لهم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راقبة الله الدائمة والبعد عن ما حرم الله وفعل كل ما أوجب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169920" y="981000"/>
            <a:ext cx="88516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24000" y="984240"/>
            <a:ext cx="8584920" cy="561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4716360" y="292428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324000" y="292428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4716360" y="443700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عل الأوا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324000" y="443700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 النواه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4716360" y="5950080"/>
            <a:ext cx="345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5950080"/>
            <a:ext cx="3166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7:00:23Z</dcterms:modified>
  <cp:revision>1981</cp:revision>
  <dc:subject/>
  <dc:title>عرض تقديمي في PowerPoint</dc:title>
</cp:coreProperties>
</file>